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7CE-CC91-45DE-913E-4FFFF36A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C92-2137-4B2D-AD32-74887817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1F08-CB0B-4DE6-B3C0-E2FDF703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B729-231D-4700-A60D-3153E31F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EC13-CA0F-46F3-8888-ADDA33DFD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3A24-1BFC-485F-8CA5-A17A940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5769-A446-46AE-802B-236D98E9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6A04-D374-4525-8FE3-07D8EB13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6A50-4787-4FB6-8029-646DB8D8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55ED-ABE0-4AD1-AF4F-D3F9C21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FF6C9-8114-406A-9DA5-87FB7617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5391-F36E-49D5-9971-B6CDC9F9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73CB-5818-4D0A-941D-983CC314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6E88-209D-4138-8BF1-6CF16062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8BC2-755D-4ED5-9B34-B040D5A1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F322-7D5E-4117-A737-9DA8F7DC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1A5C-F662-481C-9ACD-18530184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C51-6276-43B3-A1BF-2649B2F1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6AC-8A63-42D6-A656-B400453E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4CA2-AD1A-4EFD-A2AB-3FF9CF51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1B34-975B-4C7B-A9A8-8405F459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0282-C000-4585-B7D6-CCE9D282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C47-E951-4C8E-A11E-2C3E51E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F78-BBD4-4E3E-BFBF-635379CC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97C3-4EDD-4170-9AEA-590F441B2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1291-030E-4EAE-A540-C79CE4892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76560" y="22856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562360" y="3886200"/>
            <a:ext cx="2819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03848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915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 How does the amount of sugar at the beginning of the experiment relate to the amount of alcohol produc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sugar there is, the more alcohol (that can be produc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  Why was it necessary to keep all of the glassware clean during the course of this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you don’t introduce competing species (bacteria) or more sugar than was intended 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  Explain why naturally fermented products don’t get to be any more than 12 - 15% alcoho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in not 100%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  From the slope of the lines on your graphs, when is the rate of fermentation the fastest?  Explain wh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irst week or so - lots of sugar is available so the yeast multiple rapidly; over time, food runs out and the yeast start to die 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.  During fermentation, how many ATPs are produced for each molecule of glucose?  Where is the rest of the energy originally present in the gluc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ATPs; the rest of the energy is “lost” (in a form that is unavailable to the ye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4.  What determines what the eventual end products of fermentation will b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organism doing the ferme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east always do alcoholic fermentation whereas people always do lactic acid fer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What is the relationship between specific gravity &amp; sugar content? 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r sugar content = higher specific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lved sugar increases the density of the grape juic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 Is fermentation an aerobic or anaerobic process?  What does that m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erobic; does not use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What is the agent doing the fermen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 What is being used for energy during fermentation in this experim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 What are the end products of yeast ferment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yl alcohol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 Write a balanced equation for the reaction that takes place during this experim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-&gt; 2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 + 2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 What happens to the specific gravity over time in this experiment? 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ecreases as sugar is fermented and alcohol is produced (alcohol is less den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 What happens to the alcohol content over time in the contain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3:33:01Z</dcterms:created>
  <dc:creator>NHS NPS</dc:creator>
  <dc:description/>
  <dc:language>en-US</dc:language>
  <cp:lastModifiedBy>NHS NPS</cp:lastModifiedBy>
  <dcterms:modified xsi:type="dcterms:W3CDTF">2011-11-29T14:10:51Z</dcterms:modified>
  <cp:revision>5</cp:revision>
  <dc:subject/>
  <dc:title>Fermentation</dc:title>
</cp:coreProperties>
</file>